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3C8-37D7-40B6-92DC-030C2D2B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A91-0893-4425-BA1B-B751FBA5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5BC-B030-4986-9DCF-2B489CCB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CDA-6533-4E59-B416-9663AC8D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16F-F08D-4ECF-A8D2-5EAF3DDD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1E8-AC06-4352-AFBC-CDC3CB33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968-86B0-45D4-A3EA-568B7760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6F7-A2D3-4BDF-8BFA-3C5F7C6B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50B-5654-4BC7-B8EB-0BC30BD2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5BB-5513-4C4A-9A8F-3584B91E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5CB-F09E-4B3A-8321-2E12C1C3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B603-0B14-4676-81B5-B4477F6D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2DA6-FAD6-446E-BEF6-BC053330A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3322440" cy="4343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52840" y="152280"/>
            <a:ext cx="3228840" cy="430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4714920"/>
            <a:ext cx="2698920" cy="427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625920" y="4719600"/>
            <a:ext cx="285120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227400" cy="365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3408480" cy="3962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3520" y="5181480"/>
            <a:ext cx="281124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630600" y="4724280"/>
            <a:ext cx="31003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3832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86200" y="30492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19240" y="4572000"/>
            <a:ext cx="298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22790</cp:lastModifiedBy>
  <dcterms:modified xsi:type="dcterms:W3CDTF">2008-12-19T00:20:40Z</dcterms:modified>
  <cp:revision>6</cp:revision>
  <dc:subject/>
  <dc:title>Slide 1</dc:title>
</cp:coreProperties>
</file>